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C82-280A-439A-9ADC-786E82F6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684-90A1-40DC-9F75-D2C2EC2F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DE2-4D2C-4AA3-B6EE-2C5EEBAC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DD7-7559-4899-BA8D-EE93DBEB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59B-8E4E-4B9D-BFB5-F3C48738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6CA-2DAD-418F-9A84-D5419183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709-1C34-4847-BD1A-D8E3FECF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ADC-4BB1-4B26-ABA1-A7A4D83E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BA8-2AE9-4298-9E5E-E8A7F857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22A-1B22-4D7C-96EA-8EAB4AAB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B91-29FF-4198-9FFE-08B379F3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1F2-9065-459C-AB74-EFAFBDD3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CED4-437E-4F51-AD85-DE99FBDC9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2143080" cy="3047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1932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film 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ing to Americ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 film es un comico film sobre un príncipe qu visitas America a encotra su re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5943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ah’s Magical 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810200">
            <a:off x="685800" y="5105520"/>
            <a:ext cx="2209680" cy="1473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553080" y="1371600"/>
            <a:ext cx="24386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si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0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3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45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6:02:02Z</dcterms:created>
  <dc:creator>wilsonaleah</dc:creator>
  <dc:description/>
  <dc:language>en-US</dc:language>
  <cp:lastModifiedBy>wilsonaleah</cp:lastModifiedBy>
  <dcterms:modified xsi:type="dcterms:W3CDTF">2013-01-02T19:12:28Z</dcterms:modified>
  <cp:revision>3</cp:revision>
  <dc:subject/>
  <dc:title>Aleah’s Magical Cine</dc:title>
</cp:coreProperties>
</file>